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8C8E-9C92-4153-9E49-2CF47A3BF528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only randomized placebo controlled trials in the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* known anti-inflammatory properties among macrolides and tetracy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EB6D-83F8-462E-984B-9464571F1BBB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5DF3-5611-4CEA-9D6E-19571E4DE29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1326-4AEB-4B84-868B-8754061F39B2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20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905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confirmed and probable cases of Lyme disea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ate of confirmed and probable cases: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86 cases/100,000 peop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hode Island had the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fourth-highest rat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of Lyme disease in country (behind ME, VT, MA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ovisional number of confirmed and probable cases: 85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652F-A01B-4EB2-B486-7D79D292224E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F979-CEC6-4408-9017-0BC98EDF2C8D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1D0A-3012-4E09-AB85-D1E92CBF6ECB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75438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75438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75438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75438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75438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75438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ridhPPT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solidFill>
            <a:srgbClr val="005abe"/>
          </a:solidFill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5800" y="6338520"/>
            <a:ext cx="7772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ridhPPT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solidFill>
            <a:srgbClr val="005abe"/>
          </a:solidFill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ridhPPTHeader"/>
          <p:cNvPicPr/>
          <p:nvPr/>
        </p:nvPicPr>
        <p:blipFill>
          <a:blip r:embed="rId3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ridhPPT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ridhPPTHeader"/>
          <p:cNvPicPr/>
          <p:nvPr/>
        </p:nvPicPr>
        <p:blipFill>
          <a:blip r:embed="rId3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82" name="Content Placeholder 5"/>
          <p:cNvGrpSpPr/>
          <p:nvPr/>
        </p:nvGrpSpPr>
        <p:grpSpPr>
          <a:xfrm>
            <a:off x="380880" y="1774800"/>
            <a:ext cx="7772400" cy="1136520"/>
            <a:chOff x="380880" y="1774800"/>
            <a:chExt cx="7772400" cy="1136520"/>
          </a:xfrm>
        </p:grpSpPr>
        <p:sp>
          <p:nvSpPr>
            <p:cNvPr id="83" name=""/>
            <p:cNvSpPr/>
            <p:nvPr/>
          </p:nvSpPr>
          <p:spPr>
            <a:xfrm>
              <a:off x="380880" y="1774800"/>
              <a:ext cx="7772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able 1. Frequency by Year</a:t>
              </a:r>
              <a:endParaRPr b="1" lang="en-US" sz="2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0880" y="2171880"/>
              <a:ext cx="2133720" cy="369720"/>
            </a:xfrm>
            <a:prstGeom prst="rect">
              <a:avLst/>
            </a:prstGeom>
            <a:solidFill>
              <a:srgbClr val="5b9bd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14600" y="2171880"/>
              <a:ext cx="1127160" cy="369720"/>
            </a:xfrm>
            <a:prstGeom prst="rect">
              <a:avLst/>
            </a:prstGeom>
            <a:solidFill>
              <a:srgbClr val="5b9bd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1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41760" y="2171880"/>
              <a:ext cx="1128600" cy="369720"/>
            </a:xfrm>
            <a:prstGeom prst="rect">
              <a:avLst/>
            </a:prstGeom>
            <a:solidFill>
              <a:srgbClr val="5b9bd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11</a:t>
              </a:r>
              <a:endParaRPr b="1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70360" y="2171880"/>
              <a:ext cx="1127160" cy="369720"/>
            </a:xfrm>
            <a:prstGeom prst="rect">
              <a:avLst/>
            </a:prstGeom>
            <a:solidFill>
              <a:srgbClr val="5b9bd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12</a:t>
              </a:r>
              <a:endParaRPr b="1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97520" y="2171880"/>
              <a:ext cx="1128600" cy="369720"/>
            </a:xfrm>
            <a:prstGeom prst="rect">
              <a:avLst/>
            </a:prstGeom>
            <a:solidFill>
              <a:srgbClr val="5b9bd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13</a:t>
              </a:r>
              <a:endParaRPr b="1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26120" y="2171880"/>
              <a:ext cx="1127160" cy="369720"/>
            </a:xfrm>
            <a:prstGeom prst="rect">
              <a:avLst/>
            </a:prstGeom>
            <a:solidFill>
              <a:srgbClr val="5b9bd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14</a:t>
              </a:r>
              <a:endParaRPr b="1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0880" y="2541600"/>
              <a:ext cx="21337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Cases</a:t>
              </a:r>
              <a:endParaRPr b="1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541600"/>
              <a:ext cx="11271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41760" y="2541600"/>
              <a:ext cx="11286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70360" y="2541600"/>
              <a:ext cx="11271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97520" y="2541600"/>
              <a:ext cx="11286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26120" y="2541600"/>
              <a:ext cx="11271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14600" y="2171880"/>
              <a:ext cx="0" cy="739440"/>
            </a:xfrm>
            <a:prstGeom prst="line">
              <a:avLst/>
            </a:prstGeom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41760" y="2171880"/>
              <a:ext cx="0" cy="739440"/>
            </a:xfrm>
            <a:prstGeom prst="line">
              <a:avLst/>
            </a:prstGeom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70360" y="2171880"/>
              <a:ext cx="0" cy="739440"/>
            </a:xfrm>
            <a:prstGeom prst="line">
              <a:avLst/>
            </a:prstGeom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97520" y="2171880"/>
              <a:ext cx="0" cy="739440"/>
            </a:xfrm>
            <a:prstGeom prst="line">
              <a:avLst/>
            </a:prstGeom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26120" y="2171880"/>
              <a:ext cx="0" cy="739440"/>
            </a:xfrm>
            <a:prstGeom prst="line">
              <a:avLst/>
            </a:prstGeom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0880" y="2171880"/>
              <a:ext cx="7772400" cy="0"/>
            </a:xfrm>
            <a:prstGeom prst="line">
              <a:avLst/>
            </a:prstGeom>
            <a:ln w="255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880" y="2541600"/>
              <a:ext cx="7772400" cy="0"/>
            </a:xfrm>
            <a:prstGeom prst="line">
              <a:avLst/>
            </a:prstGeom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0880" y="1774800"/>
              <a:ext cx="0" cy="1136520"/>
            </a:xfrm>
            <a:prstGeom prst="line">
              <a:avLst/>
            </a:prstGeom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53280" y="1774800"/>
              <a:ext cx="0" cy="1136520"/>
            </a:xfrm>
            <a:prstGeom prst="line">
              <a:avLst/>
            </a:prstGeom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0880" y="1774800"/>
              <a:ext cx="7772400" cy="0"/>
            </a:xfrm>
            <a:prstGeom prst="line">
              <a:avLst/>
            </a:prstGeom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0880" y="2911320"/>
              <a:ext cx="7772400" cy="0"/>
            </a:xfrm>
            <a:prstGeom prst="line">
              <a:avLst/>
            </a:prstGeom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grpSp>
        <p:nvGrpSpPr>
          <p:cNvPr id="107" name="Content Placeholder 5"/>
          <p:cNvGrpSpPr/>
          <p:nvPr/>
        </p:nvGrpSpPr>
        <p:grpSpPr>
          <a:xfrm>
            <a:off x="380880" y="3886200"/>
            <a:ext cx="7772400" cy="1138320"/>
            <a:chOff x="380880" y="3886200"/>
            <a:chExt cx="7772400" cy="1138320"/>
          </a:xfrm>
        </p:grpSpPr>
        <p:sp>
          <p:nvSpPr>
            <p:cNvPr id="108" name=""/>
            <p:cNvSpPr/>
            <p:nvPr/>
          </p:nvSpPr>
          <p:spPr>
            <a:xfrm>
              <a:off x="380880" y="3886200"/>
              <a:ext cx="7772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able 2. Rate by Year</a:t>
              </a:r>
              <a:endParaRPr b="1" lang="en-US" sz="2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0880" y="4282920"/>
              <a:ext cx="2133720" cy="370080"/>
            </a:xfrm>
            <a:prstGeom prst="rect">
              <a:avLst/>
            </a:prstGeom>
            <a:solidFill>
              <a:srgbClr val="5b9bd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4282920"/>
              <a:ext cx="1127160" cy="370080"/>
            </a:xfrm>
            <a:prstGeom prst="rect">
              <a:avLst/>
            </a:prstGeom>
            <a:solidFill>
              <a:srgbClr val="5b9bd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1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41760" y="4282920"/>
              <a:ext cx="1128600" cy="370080"/>
            </a:xfrm>
            <a:prstGeom prst="rect">
              <a:avLst/>
            </a:prstGeom>
            <a:solidFill>
              <a:srgbClr val="5b9bd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11</a:t>
              </a:r>
              <a:endParaRPr b="1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70360" y="4282920"/>
              <a:ext cx="1127160" cy="370080"/>
            </a:xfrm>
            <a:prstGeom prst="rect">
              <a:avLst/>
            </a:prstGeom>
            <a:solidFill>
              <a:srgbClr val="5b9bd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12</a:t>
              </a:r>
              <a:endParaRPr b="1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97520" y="4282920"/>
              <a:ext cx="1128600" cy="370080"/>
            </a:xfrm>
            <a:prstGeom prst="rect">
              <a:avLst/>
            </a:prstGeom>
            <a:solidFill>
              <a:srgbClr val="5b9bd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13</a:t>
              </a:r>
              <a:endParaRPr b="1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26120" y="4282920"/>
              <a:ext cx="1127160" cy="370080"/>
            </a:xfrm>
            <a:prstGeom prst="rect">
              <a:avLst/>
            </a:prstGeom>
            <a:solidFill>
              <a:srgbClr val="5b9bd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14</a:t>
              </a:r>
              <a:endParaRPr b="1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0880" y="4653000"/>
              <a:ext cx="21337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ate per 100,000</a:t>
              </a:r>
              <a:endParaRPr b="1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14600" y="4653000"/>
              <a:ext cx="11271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41760" y="4653000"/>
              <a:ext cx="11286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70360" y="4653000"/>
              <a:ext cx="11271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97520" y="4653000"/>
              <a:ext cx="11286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26120" y="4653000"/>
              <a:ext cx="11271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4282920"/>
              <a:ext cx="0" cy="741600"/>
            </a:xfrm>
            <a:prstGeom prst="line">
              <a:avLst/>
            </a:prstGeom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41760" y="4282920"/>
              <a:ext cx="0" cy="741600"/>
            </a:xfrm>
            <a:prstGeom prst="line">
              <a:avLst/>
            </a:prstGeom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70360" y="4282920"/>
              <a:ext cx="0" cy="741600"/>
            </a:xfrm>
            <a:prstGeom prst="line">
              <a:avLst/>
            </a:prstGeom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97520" y="4282920"/>
              <a:ext cx="0" cy="741600"/>
            </a:xfrm>
            <a:prstGeom prst="line">
              <a:avLst/>
            </a:prstGeom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26120" y="4282920"/>
              <a:ext cx="0" cy="741600"/>
            </a:xfrm>
            <a:prstGeom prst="line">
              <a:avLst/>
            </a:prstGeom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880" y="4282920"/>
              <a:ext cx="7772400" cy="0"/>
            </a:xfrm>
            <a:prstGeom prst="line">
              <a:avLst/>
            </a:prstGeom>
            <a:ln w="255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880" y="4653000"/>
              <a:ext cx="7772400" cy="0"/>
            </a:xfrm>
            <a:prstGeom prst="line">
              <a:avLst/>
            </a:prstGeom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880" y="3886200"/>
              <a:ext cx="0" cy="1138320"/>
            </a:xfrm>
            <a:prstGeom prst="line">
              <a:avLst/>
            </a:prstGeom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53280" y="3886200"/>
              <a:ext cx="0" cy="1138320"/>
            </a:xfrm>
            <a:prstGeom prst="line">
              <a:avLst/>
            </a:prstGeom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880" y="3886200"/>
              <a:ext cx="7772400" cy="0"/>
            </a:xfrm>
            <a:prstGeom prst="line">
              <a:avLst/>
            </a:prstGeom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5024520"/>
              <a:ext cx="7772400" cy="0"/>
            </a:xfrm>
            <a:prstGeom prst="line">
              <a:avLst/>
            </a:prstGeom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solidFill>
            <a:srgbClr val="005abe"/>
          </a:solidFill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ridhPPT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ridhPPTHeader"/>
          <p:cNvPicPr/>
          <p:nvPr/>
        </p:nvPicPr>
        <p:blipFill>
          <a:blip r:embed="rId3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solidFill>
            <a:srgbClr val="005abe"/>
          </a:solidFill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2"/>
          </p:nvPr>
        </p:nvSpPr>
        <p:spPr>
          <a:xfrm>
            <a:off x="685800" y="6338520"/>
            <a:ext cx="77724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ridhPPT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ridhPPTHeader"/>
          <p:cNvPicPr/>
          <p:nvPr/>
        </p:nvPicPr>
        <p:blipFill>
          <a:blip r:embed="rId3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solidFill>
            <a:srgbClr val="005abe"/>
          </a:solidFill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3"/>
          </p:nvPr>
        </p:nvSpPr>
        <p:spPr>
          <a:xfrm>
            <a:off x="685800" y="6338520"/>
            <a:ext cx="77724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ridhPPT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ridhPPTHeader"/>
          <p:cNvPicPr/>
          <p:nvPr/>
        </p:nvPicPr>
        <p:blipFill>
          <a:blip r:embed="rId3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solidFill>
            <a:srgbClr val="005abe"/>
          </a:solidFill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2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4"/>
          </p:nvPr>
        </p:nvSpPr>
        <p:spPr>
          <a:xfrm>
            <a:off x="685800" y="6338520"/>
            <a:ext cx="77724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1523520"/>
            <a:ext cx="6858000" cy="2387880"/>
          </a:xfrm>
          <a:prstGeom prst="rect">
            <a:avLst/>
          </a:prstGeom>
          <a:solidFill>
            <a:srgbClr val="005abe"/>
          </a:solidFill>
          <a:ln w="0">
            <a:noFill/>
          </a:ln>
        </p:spPr>
        <p:txBody>
          <a:bodyPr lIns="0" rIns="0" tIns="0" bIns="3200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eorgia"/>
              </a:rPr>
              <a:t>Report on Lyme Disease</a:t>
            </a:r>
            <a:endParaRPr b="1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143000" y="4343400"/>
            <a:ext cx="685800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to PL 2015, R431 and PL 2014, R0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3,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ole Alexander-Scott, MD,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4800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35080" y="2437920"/>
            <a:ext cx="6858000" cy="2590920"/>
          </a:xfrm>
          <a:prstGeom prst="rect">
            <a:avLst/>
          </a:prstGeom>
          <a:solidFill>
            <a:srgbClr val="005abe"/>
          </a:solidFill>
          <a:ln w="0">
            <a:noFill/>
          </a:ln>
        </p:spPr>
        <p:txBody>
          <a:bodyPr lIns="0" rIns="0" tIns="0" bIns="3200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Topic 2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Response of the Medical Community in Treating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Lyme Disease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25600" y="0"/>
            <a:ext cx="7021440" cy="1295280"/>
          </a:xfrm>
          <a:prstGeom prst="rect">
            <a:avLst/>
          </a:prstGeom>
          <a:solidFill>
            <a:srgbClr val="0049b2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Physician Survey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50440" y="1828800"/>
            <a:ext cx="80010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2015 – January 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ed primary care phys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about knowledge, attitudes, and practices (diagnostic and treatment) regarding Lyme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1 respon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6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ents’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% do not know Lyme disease is endemic (widespread) in Rhode Is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% do not know how long a tick must be attached in order to transmit Lyme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 do not know serologic tests for Lyme disea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used to distinguish between active and past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% do not kn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yme disease cases, by law, are reportable to RID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7242120" cy="1295280"/>
          </a:xfrm>
          <a:prstGeom prst="rect">
            <a:avLst/>
          </a:prstGeom>
          <a:solidFill>
            <a:srgbClr val="0049b2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Physician Survey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534520" cy="52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ents’ diagnosing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% reported offer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ient education about Lyme disease in the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-ordering practices are quit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biotic prescribing is quit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% reported they would prescribe antibiotics to patient who requests it for Lyme disease, even if patient is asymptomatic and has no history of a tick b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228600" y="0"/>
            <a:ext cx="7021440" cy="1295280"/>
          </a:xfrm>
          <a:prstGeom prst="rect">
            <a:avLst/>
          </a:prstGeom>
          <a:solidFill>
            <a:srgbClr val="0049b2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Physician Survey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35080" y="2209680"/>
            <a:ext cx="6858000" cy="2362320"/>
          </a:xfrm>
          <a:prstGeom prst="rect">
            <a:avLst/>
          </a:prstGeom>
          <a:solidFill>
            <a:srgbClr val="005abe"/>
          </a:solidFill>
          <a:ln w="0">
            <a:noFill/>
          </a:ln>
        </p:spPr>
        <p:txBody>
          <a:bodyPr lIns="0" rIns="0" tIns="0" bIns="3200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Topic 3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Analysis of Best Practices in the Treatment of Lyme Disease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Summary of Practices for Chronic Lyme/PTLDS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182844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80880" y="1523880"/>
          <a:ext cx="8382240" cy="4846680"/>
        </p:xfrm>
        <a:graphic>
          <a:graphicData uri="http://schemas.openxmlformats.org/drawingml/2006/table">
            <a:tbl>
              <a:tblPr/>
              <a:tblGrid>
                <a:gridCol w="1316160"/>
                <a:gridCol w="3100320"/>
                <a:gridCol w="1973160"/>
                <a:gridCol w="1992600"/>
              </a:tblGrid>
              <a:tr h="6858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ctices for chronic Lyme/PTLD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ab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evidenc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1738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SA/CDC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ptoms longer than 6 months from initial treatmen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 confirmed diagnosis of Lyme with serology and/or bulls-eye rash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ive therapy (anti-inflammatoriesexercise, neuropathic pain relievers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ize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-controlled trial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AD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symptoms consistent with Lym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-term antibiotic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a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serie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Long-Term Antibiotic Therapy Research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4249800" cy="600120"/>
          </a:xfrm>
          <a:prstGeom prst="rect">
            <a:avLst/>
          </a:prstGeom>
          <a:solidFill>
            <a:srgbClr val="005abe"/>
          </a:solidFill>
          <a:ln w="0">
            <a:noFill/>
          </a:ln>
        </p:spPr>
        <p:txBody>
          <a:bodyPr lIns="0" rIns="0" tIns="0" bIns="22860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SA/C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51920" y="2124000"/>
            <a:ext cx="4326120" cy="54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randomized, placebo controlled clinical t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s measured using validated scoring sc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ustained difference in outcome measures between placebo and treatment groups at end of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rate of adverse events in treatment group vs. placebo group (26% vs. 7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hospitalizations in all studies in treatment group arm for adverse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47960" y="1523520"/>
            <a:ext cx="4190760" cy="600120"/>
          </a:xfrm>
          <a:prstGeom prst="rect">
            <a:avLst/>
          </a:prstGeom>
          <a:solidFill>
            <a:srgbClr val="005abe"/>
          </a:solidFill>
          <a:ln w="0">
            <a:noFill/>
          </a:ln>
        </p:spPr>
        <p:txBody>
          <a:bodyPr lIns="0" rIns="0" tIns="0" bIns="22860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L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47960" y="2124000"/>
            <a:ext cx="4190760" cy="48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ational case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ed diagnosis of Lyme not required 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requent antibiotics used were macrolides and tetracyclines in conjunction with anti-inflamma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 of therapy: 3 -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fference in outcomes between seronegative vs. seropositiv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 was patient-reported improvement in symptoms (sub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35080" y="1905120"/>
            <a:ext cx="6858000" cy="2666880"/>
          </a:xfrm>
          <a:prstGeom prst="rect">
            <a:avLst/>
          </a:prstGeom>
          <a:solidFill>
            <a:srgbClr val="005abe"/>
          </a:solidFill>
          <a:ln w="0">
            <a:noFill/>
          </a:ln>
        </p:spPr>
        <p:txBody>
          <a:bodyPr lIns="0" rIns="0" tIns="0" bIns="3200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Topic 4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Gaps in Insurance that Affect Access to Treatmen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of Lyme Disease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Insurance Coverage fo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Lyme Disease Treatment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61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pter 5-37.5: requires health plans to provide for Lyme disease treat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hysician is subject to disciplinary action solely for prescribing, administering, or dispensing long-term antibiotic therapy for a patient clinically diagnosed with Lyme disease, if this diagnosis and treatment plan have been documented in the patient’s medical record.”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yme disease treatments, like other treatments, must be “medically necessary” and “appropriat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Presentation Overview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33520" y="2057400"/>
            <a:ext cx="822960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me diseas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me disease in Rhode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community and Lyme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Lyme disease clinical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rance coverage for Lyme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and long-term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4582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me treatments are generally covered by insurance. Like other diseases/conditions, there are several reasons why treatments might be not covered or partially cove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edically necessary/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err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-the-counter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/provider is out-of-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r only accepts cash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’s employer is self-in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uctibles/co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Insurance Coverage fo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Lyme Disease Treatment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Insurance Coverage fo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Lyme Disease Treatment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67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options if coverage den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Rhode Island Department of Health (RIDOH) and the Rhode Island Office of the Health Insurance Commissioner (OHIC) oversee denials and check to ensure tha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due process rights are ho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s made are reaso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used to make decisions is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tient can also contact Rhode Island’s toll-free Health Insurance Consumer Support Line (RI Reach): 855-747-3224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35080" y="2209320"/>
            <a:ext cx="6858000" cy="3124440"/>
          </a:xfrm>
          <a:prstGeom prst="rect">
            <a:avLst/>
          </a:prstGeom>
          <a:solidFill>
            <a:srgbClr val="005abe"/>
          </a:solidFill>
          <a:ln w="0">
            <a:noFill/>
          </a:ln>
        </p:spPr>
        <p:txBody>
          <a:bodyPr lIns="0" rIns="0" tIns="0" bIns="3200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Topic 5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Current and Long-Term Goals and Strategies to Address the High Incidence of Disease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in the State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Short and Long-Term Goals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64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surveil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support for public and provid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e with DEM, 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e with New Englan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y current on Lyme resear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Current Activities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1828800"/>
            <a:ext cx="77724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disease surveil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r 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awareness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ening partne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Provider Education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2209680"/>
            <a:ext cx="8229600" cy="36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care provider e-news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ed education with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 website for phys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318440" cy="1371600"/>
          </a:xfrm>
          <a:prstGeom prst="rect">
            <a:avLst/>
          </a:prstGeom>
          <a:solidFill>
            <a:srgbClr val="0049b2"/>
          </a:solidFill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Public Education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533520" y="1706400"/>
            <a:ext cx="51814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2286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 Bi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1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 interviews</a:t>
            </a:r>
            <a:endParaRPr b="1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 releases</a:t>
            </a:r>
            <a:endParaRPr b="1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1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media</a:t>
            </a:r>
            <a:endParaRPr b="1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 tool kit (summer camps)</a:t>
            </a:r>
            <a:endParaRPr b="1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61" name="Picture 1" descr=""/>
          <p:cNvPicPr/>
          <p:nvPr/>
        </p:nvPicPr>
        <p:blipFill>
          <a:blip r:embed="rId1"/>
          <a:stretch/>
        </p:blipFill>
        <p:spPr>
          <a:xfrm>
            <a:off x="5562720" y="1409760"/>
            <a:ext cx="3492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Public Advertising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33520" y="17521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s on buses, Block Island F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w Sox (radio show, game-day interviews, fan mailings, jumbo-t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ads in Rhode Island Summer Gu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 safety signs posted at state p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Strengthening Partnerships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28600" y="1599840"/>
            <a:ext cx="861048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materials distributed at Great Outdoor Pursuit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-the-trainer workshops for DEM, DOT for tick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ducational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ig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ick-identification mag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ermethrin (tick repell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w S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Long-Term Goals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546200"/>
            <a:ext cx="8610480" cy="52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continued research on diagnosis and treatment of Lyme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e with New Englan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provider outreach and education, emphasizing clinical research updates and innovations in the diagnosis and treatment of tick-borne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active disease surveil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021440" cy="1371600"/>
          </a:xfrm>
          <a:prstGeom prst="rect">
            <a:avLst/>
          </a:prstGeom>
          <a:solidFill>
            <a:srgbClr val="0049b2"/>
          </a:solidFill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Lyme Disease Overview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547560" y="1905120"/>
            <a:ext cx="8294760" cy="45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2286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d by bacteriu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rrelia burgdorferi</a:t>
            </a:r>
            <a:endParaRPr b="1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ead through bite of infected black-legged (deer) tick</a:t>
            </a:r>
            <a:endParaRPr b="1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ost cases, a tick must be attached for 36 to 48 hours or more for Lyme disease bacterium transmission </a:t>
            </a:r>
            <a:endParaRPr b="1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1920" y="-223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Long-Term Goals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04920" y="1676520"/>
            <a:ext cx="861048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public awareness campaigns, as federal funds allow, and seek partners for additional sustainable, low-cost public aware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outreach to those communities most impacted by L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targeted trainings and workshops, based on funding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152280" y="22860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onclusion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304920" y="1676520"/>
            <a:ext cx="861048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need to more accurately reflect the burden of disease with increased testing, diagnosis, and reporting</a:t>
            </a:r>
            <a:endParaRPr b="1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ust continue and enhance education for providers and the public</a:t>
            </a:r>
            <a:endParaRPr b="1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till unanswered questions--we need reliable data and research </a:t>
            </a:r>
            <a:endParaRPr b="1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itle 1"/>
          <p:cNvSpPr/>
          <p:nvPr/>
        </p:nvSpPr>
        <p:spPr>
          <a:xfrm>
            <a:off x="152280" y="22860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3" name="Title 1"/>
          <p:cNvSpPr/>
          <p:nvPr/>
        </p:nvSpPr>
        <p:spPr>
          <a:xfrm>
            <a:off x="1219320" y="2514600"/>
            <a:ext cx="6858000" cy="2666880"/>
          </a:xfrm>
          <a:prstGeom prst="rect">
            <a:avLst/>
          </a:prstGeom>
          <a:solidFill>
            <a:srgbClr val="005a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eorgia"/>
              </a:rPr>
              <a:t>Questions?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CDC case definitions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33520" y="1523520"/>
            <a:ext cx="777240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ase of EM where there is no known exposure (as defined) and no laboratory evidence of infection (as defined)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ase with laboratory evidence of infection but no clinical information available (laboratory repo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ther case of physician-diagnosed Lyme disease that has laboratory evidence of infection (as defin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ase of EM with a known exposure (as defined)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ase of EM with laboratory evidence of infection (as defined) and without a known exposure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ase with at least one late manifestation that has laboratory evidence of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7144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Key Messages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2198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095960" cy="1371600"/>
          </a:xfrm>
          <a:prstGeom prst="rect">
            <a:avLst/>
          </a:prstGeom>
          <a:solidFill>
            <a:srgbClr val="0049b2"/>
          </a:solidFill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Lyme Disease Symptoms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9800" cy="60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286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initial symp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l’s-eye rash (erythema migrans) in 60%-80% of patients within 7 to 30 days of tick b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pecific symptoms: fever, tiredness, headache, joint pain, muscle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manifestations (weeks – months after b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ritis (particularly in the knee j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logic problems (Bell’s Pals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ac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ingit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ic Lyme/Post Treatment Lyme Disease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35080" y="2286000"/>
            <a:ext cx="6858000" cy="2286000"/>
          </a:xfrm>
          <a:prstGeom prst="rect">
            <a:avLst/>
          </a:prstGeom>
          <a:solidFill>
            <a:srgbClr val="005abe"/>
          </a:solidFill>
          <a:ln w="0">
            <a:noFill/>
          </a:ln>
        </p:spPr>
        <p:txBody>
          <a:bodyPr lIns="0" rIns="0" tIns="0" bIns="3200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Topic 1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Analysis of Current Levels of Lyme Disease in Rhode Island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Chart 5"/>
          <p:cNvGraphicFramePr/>
          <p:nvPr/>
        </p:nvGraphicFramePr>
        <p:xfrm>
          <a:off x="236520" y="1379520"/>
          <a:ext cx="8609040" cy="503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520" y="1379520"/>
                    <a:ext cx="8609040" cy="50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86920" y="114480"/>
            <a:ext cx="76215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20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Lyme Disease in Rhode Islan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2008-2015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6979320" y="6362640"/>
            <a:ext cx="180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*2015 data are provisional</a:t>
            </a:r>
            <a:endParaRPr b="1" lang="en-US" sz="1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3" name="Straight Connector 2"/>
          <p:cNvSpPr/>
          <p:nvPr/>
        </p:nvSpPr>
        <p:spPr>
          <a:xfrm>
            <a:off x="5715000" y="2057400"/>
            <a:ext cx="0" cy="403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4" name="TextBox 1"/>
          <p:cNvSpPr/>
          <p:nvPr/>
        </p:nvSpPr>
        <p:spPr>
          <a:xfrm>
            <a:off x="3545280" y="2286000"/>
            <a:ext cx="194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ssive Surveillance</a:t>
            </a:r>
            <a:endParaRPr b="1" lang="en-US" sz="1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5" name="TextBox 2"/>
          <p:cNvSpPr/>
          <p:nvPr/>
        </p:nvSpPr>
        <p:spPr>
          <a:xfrm>
            <a:off x="6384240" y="2286000"/>
            <a:ext cx="18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e Surveillance</a:t>
            </a:r>
            <a:endParaRPr b="1" lang="en-US" sz="1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467840" cy="1371600"/>
          </a:xfrm>
          <a:prstGeom prst="rect">
            <a:avLst/>
          </a:prstGeom>
          <a:solidFill>
            <a:srgbClr val="0049b2"/>
          </a:solidFill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Lyme Disease by Age, 2014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317" name="Content Placeholder 11"/>
          <p:cNvGraphicFramePr/>
          <p:nvPr/>
        </p:nvGraphicFramePr>
        <p:xfrm>
          <a:off x="177840" y="1879560"/>
          <a:ext cx="8788320" cy="375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8" name="Content Placeholder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879560"/>
                    <a:ext cx="878832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TextBox 3"/>
          <p:cNvSpPr/>
          <p:nvPr/>
        </p:nvSpPr>
        <p:spPr>
          <a:xfrm>
            <a:off x="266760" y="56386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ults ages 50-59 had the highest rate </a:t>
            </a:r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ges 60-69, 10-19 had the second highest rate</a:t>
            </a:r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680"/>
            <a:ext cx="7208640" cy="1371600"/>
          </a:xfrm>
          <a:prstGeom prst="rect">
            <a:avLst/>
          </a:prstGeom>
          <a:solidFill>
            <a:srgbClr val="0049b2"/>
          </a:solidFill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Lyme Disease by Sex 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321" name="Chart 8"/>
          <p:cNvGraphicFramePr/>
          <p:nvPr/>
        </p:nvGraphicFramePr>
        <p:xfrm>
          <a:off x="412920" y="1625760"/>
          <a:ext cx="7873920" cy="39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Char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1625760"/>
                    <a:ext cx="7873920" cy="39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Box 2"/>
          <p:cNvSpPr/>
          <p:nvPr/>
        </p:nvSpPr>
        <p:spPr>
          <a:xfrm>
            <a:off x="444600" y="53802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es had higher counts and rates of Lyme disease than females</a:t>
            </a:r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 with 10-year trend of national data </a:t>
            </a:r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1920" y="146160"/>
            <a:ext cx="7543800" cy="1218960"/>
          </a:xfrm>
          <a:prstGeom prst="rect">
            <a:avLst/>
          </a:prstGeom>
          <a:solidFill>
            <a:srgbClr val="0049b2"/>
          </a:solidFill>
          <a:ln w="0">
            <a:noFill/>
          </a:ln>
        </p:spPr>
        <p:txBody>
          <a:bodyPr lIns="0" rIns="0" tIns="0" bIns="32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Lyme Disease by Month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325" name="Content Placeholder 6"/>
          <p:cNvGraphicFramePr/>
          <p:nvPr/>
        </p:nvGraphicFramePr>
        <p:xfrm>
          <a:off x="100080" y="1523880"/>
          <a:ext cx="8788320" cy="375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6" name="Content Placeholder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1523880"/>
                    <a:ext cx="878832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TextBox 3"/>
          <p:cNvSpPr/>
          <p:nvPr/>
        </p:nvSpPr>
        <p:spPr>
          <a:xfrm>
            <a:off x="266760" y="523224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me disease peaks in the summer when people spend more time outside</a:t>
            </a:r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Lyme disease peaks in the summer too</a:t>
            </a:r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4: 59% of Lyme disease cases were June - August</a:t>
            </a:r>
            <a:endParaRPr b="1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23:34Z</dcterms:created>
  <dc:creator>HEALTH RI Test Lab</dc:creator>
  <dc:description/>
  <dc:language>en-US</dc:language>
  <cp:lastModifiedBy>Quilliam, Daniela (DOH)</cp:lastModifiedBy>
  <dcterms:modified xsi:type="dcterms:W3CDTF">2016-03-14T14:38:55Z</dcterms:modified>
  <cp:revision>124</cp:revision>
  <dc:subject/>
  <dc:title>PowerPoint Presentation</dc:title>
</cp:coreProperties>
</file>